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1.jpeg" ContentType="image/jpeg"/>
  <Override PartName="/ppt/media/image24.png" ContentType="image/png"/>
  <Override PartName="/ppt/media/image22.wmf" ContentType="image/x-wmf"/>
  <Override PartName="/ppt/media/image35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28.wmf" ContentType="image/x-wmf"/>
  <Override PartName="/ppt/media/image30.png" ContentType="image/png"/>
  <Override PartName="/ppt/media/image36.png" ContentType="image/png"/>
  <Override PartName="/ppt/media/image3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23.wmf" ContentType="image/x-wmf"/>
  <Override PartName="/ppt/media/image13.png" ContentType="image/png"/>
  <Override PartName="/ppt/media/image53.wmf" ContentType="image/x-wmf"/>
  <Override PartName="/ppt/media/image9.png" ContentType="image/png"/>
  <Override PartName="/ppt/media/image31.png" ContentType="image/png"/>
  <Override PartName="/ppt/media/image39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wmf" ContentType="image/x-wmf"/>
  <Override PartName="/ppt/media/image50.png" ContentType="image/png"/>
  <Override PartName="/ppt/media/image51.png" ContentType="image/png"/>
  <Override PartName="/ppt/media/image52.png" ContentType="image/png"/>
  <Override PartName="/ppt/media/image54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C2D-EB5A-48AB-9F89-3624D26E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54F-4C3D-42EB-A9B2-E7A718C9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BBB-6AE6-40E5-93F0-E097A74F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A6E-0B74-49B9-8769-AB680A36F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DED-00A7-470E-9CAC-95FF4323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47D-32EB-4F4E-A3F6-619BA66C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A7E-E820-4729-A239-936A4A0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124-14CC-4D64-B8C9-40CF44EC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3FCD-E97C-4F0F-BFB2-74CC17A2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323-B66E-4865-8417-8174BB8C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7A4-94EB-42DA-A246-8A680D3E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D99-F18C-42D1-B6E9-4A66188B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94E8-BE7D-4862-B834-C9FF88DB0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1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41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wmf"/><Relationship Id="rId5" Type="http://schemas.openxmlformats.org/officeDocument/2006/relationships/image" Target="../media/image49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3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0"/>
            <a:ext cx="8382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371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600200" y="1676520"/>
            <a:ext cx="601992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8915400" cy="416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33520" y="16002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whether each relation represents a function.  If it is a function, state the domain and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9625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(-2, 3), (4, 1), (3, -2), (2, -1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4967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(2, 3), (4, 3), (3, 3), (2, -1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28954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(2, 3), (4, 1), (3, -2), (2, -1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458200" cy="40968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533520" y="1828800"/>
            <a:ext cx="8076960" cy="1137600"/>
            <a:chOff x="533520" y="1828800"/>
            <a:chExt cx="8076960" cy="1137600"/>
          </a:xfrm>
        </p:grpSpPr>
        <p:sp>
          <p:nvSpPr>
            <p:cNvPr id="82" name=""/>
            <p:cNvSpPr/>
            <p:nvPr/>
          </p:nvSpPr>
          <p:spPr>
            <a:xfrm>
              <a:off x="533520" y="2019240"/>
              <a:ext cx="8076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termine if the equation                         define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s a function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4386240" y="1828800"/>
            <a:ext cx="1905120" cy="95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86240" y="1828800"/>
                      <a:ext cx="1905120" cy="95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" name=""/>
          <p:cNvGrpSpPr/>
          <p:nvPr/>
        </p:nvGrpSpPr>
        <p:grpSpPr>
          <a:xfrm>
            <a:off x="609480" y="4149720"/>
            <a:ext cx="8077320" cy="956880"/>
            <a:chOff x="609480" y="4149720"/>
            <a:chExt cx="8077320" cy="956880"/>
          </a:xfrm>
        </p:grpSpPr>
        <p:sp>
          <p:nvSpPr>
            <p:cNvPr id="86" name=""/>
            <p:cNvSpPr/>
            <p:nvPr/>
          </p:nvSpPr>
          <p:spPr>
            <a:xfrm>
              <a:off x="609480" y="4159440"/>
              <a:ext cx="8077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termine if the equation                      defines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y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as a function of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.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7" name=""/>
            <p:cNvGraphicFramePr/>
            <p:nvPr/>
          </p:nvGraphicFramePr>
          <p:xfrm>
            <a:off x="4484520" y="4149720"/>
            <a:ext cx="1689120" cy="552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84520" y="4149720"/>
                      <a:ext cx="1689120" cy="55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6524640" cy="73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3920" y="33480"/>
            <a:ext cx="869616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334120" cy="3551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362320" y="380880"/>
            <a:ext cx="4495680" cy="581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FUNCTION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5257800"/>
            <a:ext cx="9096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6019920" cy="53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76320" y="2438280"/>
          <a:ext cx="84582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438280"/>
                    <a:ext cx="84582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0" y="3429000"/>
            <a:ext cx="91440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7620120" cy="428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4800600" cy="733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" y="2971800"/>
            <a:ext cx="4648320" cy="907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" y="4138560"/>
            <a:ext cx="5105520" cy="585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638680" y="2006640"/>
            <a:ext cx="3429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59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19320" y="2743200"/>
            <a:ext cx="721512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609480"/>
            <a:ext cx="8534160" cy="5257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057400"/>
            <a:ext cx="830592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domai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re is exactly one im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 range; however, an element in the range can result from more than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dom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ymbol that we use to denote the function.  It is symbolic of the equation that we use to get from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domain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lled the independent variable or argumen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lled the dependent variable or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777960"/>
            <a:ext cx="69343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mportant Facts Abou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85760" y="3176640"/>
            <a:ext cx="8772480" cy="50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3733920"/>
            <a:ext cx="6524640" cy="734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7162920" cy="746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52440" y="5105520"/>
            <a:ext cx="82580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3157560"/>
            <a:ext cx="77724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00400" y="380880"/>
            <a:ext cx="5943600" cy="438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3520" y="1219320"/>
            <a:ext cx="7467480" cy="4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219320" y="2057400"/>
          <a:ext cx="2971800" cy="83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057400"/>
                    <a:ext cx="29718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219320" y="3651120"/>
          <a:ext cx="2350800" cy="54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3651120"/>
                    <a:ext cx="23508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95280" y="5087880"/>
          <a:ext cx="2567160" cy="56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5087880"/>
                    <a:ext cx="25671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7086600" cy="486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190512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ctangular garden has a perimeter of 100 feet.  Express the are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garden as a function of the wid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Find the do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62120" y="3657600"/>
            <a:ext cx="2590560" cy="1295280"/>
            <a:chOff x="762120" y="3657600"/>
            <a:chExt cx="2590560" cy="1295280"/>
          </a:xfrm>
        </p:grpSpPr>
        <p:sp>
          <p:nvSpPr>
            <p:cNvPr id="126" name=""/>
            <p:cNvSpPr/>
            <p:nvPr/>
          </p:nvSpPr>
          <p:spPr>
            <a:xfrm>
              <a:off x="762120" y="3657600"/>
              <a:ext cx="2057400" cy="129528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40384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0720" y="37339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191120" y="3886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5181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 0 &lt; w &lt;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880" y="3014640"/>
            <a:ext cx="825840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745400" cy="2919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82803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56480" cy="2608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09480" y="3398760"/>
            <a:ext cx="77454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429000" y="304920"/>
            <a:ext cx="5105520" cy="60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020600" y="1143000"/>
          <a:ext cx="7031160" cy="12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0600" y="1143000"/>
                    <a:ext cx="7031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76680" y="2714760"/>
                <a:ext cx="2514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80880" y="2666880"/>
            <a:ext cx="2438640" cy="641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380880" y="3505320"/>
            <a:ext cx="2438640" cy="59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819520" y="3505320"/>
                <a:ext cx="26668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380880" y="4267080"/>
            <a:ext cx="2286000" cy="58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666880" y="4267080"/>
                <a:ext cx="35053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380880" y="5029200"/>
            <a:ext cx="1905120" cy="102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2286000" y="5029200"/>
          <a:ext cx="1523880" cy="1027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5029200"/>
                    <a:ext cx="152388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133720" cy="533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874800"/>
            <a:ext cx="1371600" cy="4968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52280" y="1407960"/>
            <a:ext cx="8839440" cy="202104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76320" y="3581280"/>
            <a:ext cx="8991360" cy="1143000"/>
            <a:chOff x="76320" y="3581280"/>
            <a:chExt cx="8991360" cy="114300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228600" y="3581280"/>
              <a:ext cx="2895480" cy="47304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</p:spPr>
        </p:pic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76320" y="4097160"/>
              <a:ext cx="8991360" cy="62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76320" y="4876920"/>
            <a:ext cx="5638680" cy="1941480"/>
            <a:chOff x="76320" y="4876920"/>
            <a:chExt cx="5638680" cy="1941480"/>
          </a:xfrm>
        </p:grpSpPr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228600" y="4876920"/>
              <a:ext cx="2819520" cy="46008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76320" y="5362560"/>
              <a:ext cx="5638680" cy="145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85760" y="3176640"/>
            <a:ext cx="8772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rrespondence between two 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952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x and y are two elements in these sets and if a relation exists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we say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rresponds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pends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we wr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3145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7543800" cy="507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4867200" cy="260028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838080" y="4648320"/>
            <a:ext cx="7086600" cy="1040760"/>
            <a:chOff x="838080" y="4648320"/>
            <a:chExt cx="7086600" cy="1040760"/>
          </a:xfrm>
        </p:grpSpPr>
        <p:pic>
          <p:nvPicPr>
            <p:cNvPr id="56" name="" descr=""/>
            <p:cNvPicPr/>
            <p:nvPr/>
          </p:nvPicPr>
          <p:blipFill>
            <a:blip r:embed="rId4"/>
            <a:srcRect l="0" t="0" r="52507" b="-36531"/>
            <a:stretch/>
          </p:blipFill>
          <p:spPr>
            <a:xfrm>
              <a:off x="838080" y="4648320"/>
              <a:ext cx="6705720" cy="73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rcRect l="47496" t="0" r="0" b="0"/>
            <a:stretch/>
          </p:blipFill>
          <p:spPr>
            <a:xfrm>
              <a:off x="914400" y="5181480"/>
              <a:ext cx="7010280" cy="50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29000" y="380880"/>
            <a:ext cx="23623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143000"/>
            <a:ext cx="5105520" cy="2597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33720" y="4114800"/>
            <a:ext cx="48196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29000" y="380880"/>
            <a:ext cx="23623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772480" cy="7239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057400" y="2819520"/>
            <a:ext cx="457200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371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066680" y="1981080"/>
            <a:ext cx="668664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371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8080" y="1897200"/>
            <a:ext cx="72392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2:05:03Z</dcterms:created>
  <dc:creator>Harry S. Mills</dc:creator>
  <dc:description/>
  <dc:language>en-US</dc:language>
  <cp:lastModifiedBy>Harry S. Mills</cp:lastModifiedBy>
  <dcterms:modified xsi:type="dcterms:W3CDTF">2007-12-28T13:11:52Z</dcterms:modified>
  <cp:revision>2</cp:revision>
  <dc:subject/>
  <dc:title>Slide 1</dc:title>
</cp:coreProperties>
</file>